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04E-9F7E-46BE-9570-06EB3F7A9786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F96-5E3E-4E7E-8552-2F21D139D41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과 물질의 구분 불능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진공 없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3EFB-F1C0-4468-95BE-03D4B7C6F2E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3DD-7E61-47BD-9AFC-C1CB10785E1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E75-3401-46F6-8787-CD5FA7AD748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6F8-F0A8-468F-8CE2-BFA57D6924B9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B37-7218-4E98-AD03-43856BCB04C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EEB-2353-4225-82A8-1326D3CDC16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그 진기한 기계를 구성하고 있는 각 부분들은 매우 틀이 잘 잡히고 적합하며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바퀴와 부속품이 엄청나게 많다고 해도 그런 운동에 적절하고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어떠한 지식이나 설계가 없어도 각 부분이 각자의 방식에 따라 움직인다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더구나 그것들은 마치 스스로 자기들의 임무를 알고 생각하는 것처럼 규칙적이고 일정하게 움직이도록 고안된 것이어서 각각의 부속품들은 다양한 목적에 따라 움직이고 있다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.” 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--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(Robert Boyle, 1627-1691)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보일이 언급한 스트라스부르크 시계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574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에 완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위의 그림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87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에 재건된 모습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이 시계는 시간을 알려줄 뿐만 아니라 태양과 달의 주기를 나타내기도 했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일식과 월식을 계산하기도 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왼쪽 탑의 꼭대기에 있는 닭 모양의 자동인형은 매일 정오에 세 번씩 소리내어 울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34D-B676-4037-90CB-C6B811D63D7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계는 사람이 의도한 기능을 수행하기 위해 사람에 의해 만들어지고 설계된 복잡한 인공물이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록 시계가 살아 있는 것은 아니지만 지적인 존재의 복잡성과 목적의식을 모방하고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일 당신이 시계를 의도적으로 존재하게끔 한 지적인 제조자가 있다는 사실을 알지 못했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계가 스스로 지적이며 목적의식을 가지고 있다고 생각할 수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분별력 있는 사람이라면 그것을 우리가 직접 만들었다는 것을 알기 때문에 그 기계들이 목적을 가진 존재가 아니란 것을 충분히 알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일 철학자들이 자연계가 규칙적인 운동 양식을 보인다고 생각했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적인 시계는 규칙적인 자연 운동 방식을 모델로 해서 기계적으로 만들어 낸 것이라고 볼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기계들은 한정된 구조를 가지고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기계들을 만들거나 동작시키는 데 필요한 물질과 운동은 원칙적으로 인간이 알 수 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시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마디로 기계들은 완전히 이해할 수 있는 대상이라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C06A-8230-4847-B0D1-4A3D1CC8AFB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기계의 이해 가능성 → 자연의 이해 가능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신이 직접 손으로 만들거나 자기 마음에 따라 설계한 것에 한해서는 확실하게 알 수 있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기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의 ‘놀라움을 제거하기’ 위한 매개물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45A-7B01-4791-9339-465BF7B8930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4BFE-82A0-48B8-B640-15C9F5AD7D8B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대륙 발견과 유럽의 팽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르네상스 인문주의와 인쇄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사실들과 고대 원전의 범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개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경 해석의 권위는 누구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페르니쿠스의 도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의 중심은 어디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131F-06A5-483B-9EE4-645C0E7CE0F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기계적 철학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세계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운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간을 차지하는 기하학적 외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간을 차지하는 것이 곧 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세계는 세 가지 물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로 꽉 찬 연속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(plenum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최초에 신이 부여한 운동은 보존되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충돌에 의해서만 힘 전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504d"/>
                </a:solidFill>
                <a:latin typeface="맑은 고딕"/>
              </a:rPr>
              <a:t>데카르트 식의 물리적 설명</a:t>
            </a:r>
            <a:r>
              <a:rPr b="0" lang="en-US" sz="24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c0504d"/>
                </a:solidFill>
                <a:latin typeface="맑은 고딕"/>
              </a:rPr>
              <a:t>사물의 구성 성분과 입자들의 운동 상태를 밝히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8B6-A0AE-4FF1-B112-8C09DC95CBAA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01F-38A0-4B10-8DF3-7E4DF634FA2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A82-882E-4DD8-A263-856871DEA9F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0CC-7AA9-4FAE-8ECA-DCBD357CE4D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131D-4E8B-4546-9D14-35ECBDC1AF4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+3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선 관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거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동의 양 보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유는 신이 창조시에 부여한 양이기 때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법칙이 유지되는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6C55-7AFA-4457-BFC1-DC595B3A78D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93B-7DB4-40D7-BDC5-DE01D016B82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AAE1-B9E4-438D-BE8E-5DD96E9935EE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874-2553-4020-971C-DC4901E6EE5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3FC4-E3A8-4F77-9CC9-D33D1EE09364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1183-E78F-4FA1-9CA9-D0C261767591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구의 자전은 지구주위의 작은 소용돌이 형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따라 위성이 돌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2CA7-A0DB-4760-B729-FA1A1D44516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245-6791-46CD-A6C1-6FD069BBA916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211-D428-4676-9138-FFBAA5381A3F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26F-A8D9-42A7-BDED-AF3F98C19AB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81B-F508-48FF-8D54-1FFE7622E129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소화 작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식 입자들을 열로 분해하는 것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거친 입자는  직장을 통해 배출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장 미세한 입자들은 적절한 크기의 구멍을 통해 두뇌와 생식기관을 향해 흐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반사 작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불 미립자들은 매우 빠르게 움직이므로 인접한 피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위치를 바꿔놓을 힘을 가지게 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은 신경섬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잡아당겨 ‘마치 줄을 당기면 반대편 끝의 벨이 울리게 되는 것처럼’ 뇌에서 끝나는 구멍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열게 만든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멍이 열리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뇌의 공동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들어 있던 ‘동물적 정신’은 구멍으로 운반되는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불로부터 발을 빼게 하는 근육으로 들어가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눈과 머리를 발 쪽으로 돌리게 하는 곳으로 들어가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는 손을 뻗치고 몸을 구부려 보호하게 하는 곳으로 들어간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638-9AC2-4375-A28B-5DE1458650E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710-2A0B-49AC-B945-008F3EA2594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8C9-36D4-4F08-B33A-E177A43A5160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C364-1596-4D43-9081-53FD966A833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51A2-4618-4D46-9E26-80E919ABF15C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F347-7726-4BAF-853A-D1E7D8ED887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선험적 방법을 통한 확실한 지식의 존재 재확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주의에 대한 대안으로서 기계적 철학 제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F8F-F8BA-4A59-B6B0-D8CC2E0D6B95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론주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라는 유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는 세계에 대해 아무것도 알 수 없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각 경험 불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학적 논증의 확실성 불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학의 공리연역체계 따라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845-C70C-4564-997A-E75D3445E8C2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방법서설은 다른 자연과학 연구서의 방법론을 소개하는 서문 역할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신독단론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회의론 극복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명징성의 재확립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감각경험에 대한 체계적 의심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방법론적 회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나는 생각한다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고로 나는 존재한다”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신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세계 존재 증명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형식적 논증은 아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라틴어로 쓰지 않은 최초의 근대철학서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신 존재 증명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심으로 가득 찬 인간은 불완전한 존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불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라는 개념을 전제로 한 개념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완전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을 알고 있는 것은 완전한 무언가 존재한다는 뜻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즉 완전한 존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신이 존재할 수밖에 없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E7E1-4654-4886-99FB-C71EBA47F13D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453-2702-4434-87C2-DC5BFDDCFFE7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889-998F-45BD-90E7-98AAA1823F78}" type="slidenum">
              <a:rPr b="0" lang="ko-KR" sz="1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466-3875-4F24-9499-0B359B53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247-C376-4B5C-9768-EB9709E8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552-4253-43A7-B595-A1603003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C69-2C66-4BAA-A3DF-A9B6B265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5FC-20D9-462F-B03E-4D242D2C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99B-FCFB-4FB5-BEAF-117B1FCD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B21-0768-4173-81CA-348BAE3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F28-427A-4D6E-BB6B-2A81A12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568-E6A8-460C-A2F7-3D2C3EC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D27-7751-4BAB-83F4-4964F73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3B9-386F-4867-9084-672E79E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CAA-03D8-4715-AE73-A1D1FF1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FA3F-A48F-48AE-8B9D-E0E6BDF0BABD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humanistischecanon.nl/foto/Descartes%20Portret%20door%20Frans%20Hals%201648.jpg"/>
          <p:cNvPicPr/>
          <p:nvPr/>
        </p:nvPicPr>
        <p:blipFill>
          <a:blip r:embed="rId1"/>
          <a:stretch/>
        </p:blipFill>
        <p:spPr>
          <a:xfrm>
            <a:off x="-4789440" y="-3195720"/>
            <a:ext cx="14335200" cy="1754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데카르트와 기계적 철학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감각적 특징이 제거된 대상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간을 차지하고 있는 무색무취의 물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렇다면 열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목적론과 신비주의 극복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목적과 능동성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에게 무겁다는 게 무슨 뜻이냐고 묻는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은 지구의 중심으로 가려고 하는 노력이라고 말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찬가지로 사물이 아래로 내려가는 원인은 내려가려고 하는 노력이라고 말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몸이 내려가고 올라가는 것은 그러려고 하기 때문이라는 것은 마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과 쇠붙이가 욕망을 가지고 있거나 혹은 사람처럼 그것들이 있어야 할 자리를 식별한다는 얘기와 마찬가지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홉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Thomas Hobbes, 1588-1679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 ≒ 거대한 자동시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565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나는 물리적 원인에 대해 많은 연구를 했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그 목적은 우주라는 기계가 살아 있는 성스러운 존재가 아니라 시계와 비슷한 것임을 보여주는 것이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케플러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Johannes Kepler, 1571-1630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File:Straßburger Muenster Astronomische Uhr.jpg"/>
          <p:cNvPicPr/>
          <p:nvPr/>
        </p:nvPicPr>
        <p:blipFill>
          <a:blip r:embed="rId1"/>
          <a:stretch/>
        </p:blipFill>
        <p:spPr>
          <a:xfrm>
            <a:off x="187200" y="404640"/>
            <a:ext cx="8705880" cy="5832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71640" y="5805360"/>
            <a:ext cx="727236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스트라스부르크 대성당의 거대한 천문시계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(1574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년 완공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우주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시계의 규칙적인 작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숨겨진 메커니즘 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||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의 규칙적인 작동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숨겨진 메커니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 비유의 설득력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49417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겉보기의 생명력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상의 인공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복잡하지만 완벽하게 이해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 역시 마찬가지로 이해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5" name="Picture 11" descr="The Digesting Duck"/>
          <p:cNvPicPr/>
          <p:nvPr/>
        </p:nvPicPr>
        <p:blipFill>
          <a:blip r:embed="rId1"/>
          <a:stretch/>
        </p:blipFill>
        <p:spPr>
          <a:xfrm>
            <a:off x="2771640" y="620640"/>
            <a:ext cx="3672000" cy="3303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01560" y="692280"/>
            <a:ext cx="224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igesting Duck (1739)</a:t>
            </a:r>
            <a:endParaRPr b="0" lang="en-US" sz="1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을 마치 기계처럼 생각하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5945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그리고 이런 종류의 다른 기계들은 비록 사람이 만든 것이기는 해도 그렇다고 그것들이 각자의 방식으로 스스로 움직이는 힘이 결여된 것은 아니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어째서 인간의 호흡과 소화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운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감각에 대해서는 시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분수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제분기의 운동을 설명하는 것과 같은 방식으로 설명하지 않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데카르트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Rene Descartes, 1596-1650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6-17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유럽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식의 위기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권위의 추락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의 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와 신비주의적 조류의 확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적 철학의 기획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에서 감각적 특징과 능동적 속성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연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동적 물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계적 운동의 결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적 세계 체계 구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에 버금가는 포괄적 이론 체계 추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계와 인간의 작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감각에 대한 일관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?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" name="Picture 6" descr="1664. Le Monde de Descartes."/>
          <p:cNvPicPr/>
          <p:nvPr/>
        </p:nvPicPr>
        <p:blipFill>
          <a:blip r:embed="rId1"/>
          <a:stretch/>
        </p:blipFill>
        <p:spPr>
          <a:xfrm>
            <a:off x="611280" y="404640"/>
            <a:ext cx="3744720" cy="599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4500720" y="4797360"/>
            <a:ext cx="439236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《</a:t>
            </a:r>
            <a:r>
              <a:rPr b="0" lang="ko-KR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세계</a:t>
            </a: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》 </a:t>
            </a:r>
            <a:r>
              <a:rPr b="0" lang="en-US" sz="3300" spc="-1" strike="noStrike">
                <a:solidFill>
                  <a:srgbClr val="ffc000"/>
                </a:solidFill>
                <a:latin typeface="Georgia"/>
                <a:ea typeface="맑은 고딕"/>
              </a:rPr>
              <a:t>(1633/1664)</a:t>
            </a:r>
            <a:endParaRPr b="0" lang="en-US" sz="33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기계적 세계관 철저하게 적용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1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부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빛과 우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/ 2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부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–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  <a:ea typeface="맑은 고딕"/>
              </a:rPr>
              <a:t>인간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물질로 가득 찬 공간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불의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의 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흙의 원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 원소는 크기와 모양의 차이만 있을 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뜨거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차가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건조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습함의 성질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마다 선호하는 장소가 있는 것도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복잡한 현상은 어떻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 입자들의 운동과 상호 밀어냄에 의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신이 자연에 부여한 세 가지 법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27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물체는 다른 물체가 충돌해서 상태를 변화시키지 않는 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항상 동일한 상태를 유지하려고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 물체가 다른 물체를 밀 때 자신의 운동을 잃지 않는 한 다른 물체에 운동을 줄 수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한 자신의 운동이 증가하지 않는 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른 물체에서 운동을 빼앗을 수도 없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체가 움직일 때 물체를 구성하는 각각의 부분들은 직선으로 운동하려는 경향이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vortex"/>
          <p:cNvPicPr/>
          <p:nvPr/>
        </p:nvPicPr>
        <p:blipFill>
          <a:blip r:embed="rId1"/>
          <a:stretch/>
        </p:blipFill>
        <p:spPr>
          <a:xfrm>
            <a:off x="490680" y="404640"/>
            <a:ext cx="447804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1440" y="2420640"/>
            <a:ext cx="370692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소용돌이 우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1440" y="3933720"/>
            <a:ext cx="37069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러 태양계의 존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항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과 혜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빛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격렬한 회전이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에 의해 전달된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행성들은 왜 공전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522936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행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흐름을 따라 움직이는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거운 행성일수록 바깥 궤도를 회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9" name="Picture 4" descr="vortex"/>
          <p:cNvPicPr/>
          <p:nvPr/>
        </p:nvPicPr>
        <p:blipFill>
          <a:blip r:embed="rId1"/>
          <a:srcRect l="29335" t="2954" r="5278" b="52746"/>
          <a:stretch/>
        </p:blipFill>
        <p:spPr>
          <a:xfrm>
            <a:off x="2340000" y="260280"/>
            <a:ext cx="46083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37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혜성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계를 넘나드는 행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5661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선 운동 경향이 매우 큰 무거운 행성일 경우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6" descr="rene descartes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통과의 결별이 필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는 왜 자전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 양편의 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의 속도 차이에 의한 지구 회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돌멩이는 왜 떨어지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소용돌이 운동을 하는 물질입자들 중에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상대적으로 원심적 효과가 작은 물질들에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미치는 겉보기 현상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– 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Gravity’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220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조수는 왜 발생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달에 의한 압력으로 바다가 양 옆으로 밀려나는 현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9" name="Picture 5" descr="데카르트 조수"/>
          <p:cNvPicPr/>
          <p:nvPr/>
        </p:nvPicPr>
        <p:blipFill>
          <a:blip r:embed="rId1"/>
          <a:stretch/>
        </p:blipFill>
        <p:spPr>
          <a:xfrm>
            <a:off x="2050920" y="476280"/>
            <a:ext cx="5257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빛이 프리즘이나 물방울을 통과하면 색깔이 나타나는 이유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5084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이 매질을 지나면서 회전 속도의 차이 발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회전 속도의 차이가 색깔로 나타나는 것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2" name="Picture 7" descr="EMB00000cd82848"/>
          <p:cNvPicPr/>
          <p:nvPr/>
        </p:nvPicPr>
        <p:blipFill>
          <a:blip r:embed="rId1"/>
          <a:stretch/>
        </p:blipFill>
        <p:spPr>
          <a:xfrm>
            <a:off x="2411280" y="260280"/>
            <a:ext cx="38163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석은 왜 서로 잡아당기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5589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너트형 구멍이 있는 자석과 볼트형 미립자들의 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4" descr="Scan0018"/>
          <p:cNvPicPr/>
          <p:nvPr/>
        </p:nvPicPr>
        <p:blipFill>
          <a:blip r:embed="rId1"/>
          <a:srcRect l="1563" t="4522" r="6253" b="0"/>
          <a:stretch/>
        </p:blipFill>
        <p:spPr>
          <a:xfrm>
            <a:off x="1835280" y="103320"/>
            <a:ext cx="54007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2491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체는 자동인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7" name="Picture 4" descr="descartes-reflex"/>
          <p:cNvPicPr/>
          <p:nvPr/>
        </p:nvPicPr>
        <p:blipFill>
          <a:blip r:embed="rId1"/>
          <a:stretch/>
        </p:blipFill>
        <p:spPr>
          <a:xfrm>
            <a:off x="2195640" y="343080"/>
            <a:ext cx="48243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간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신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+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육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계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30" name="Picture 3" descr="descartesman"/>
          <p:cNvPicPr/>
          <p:nvPr/>
        </p:nvPicPr>
        <p:blipFill>
          <a:blip r:embed="rId1"/>
          <a:stretch/>
        </p:blipFill>
        <p:spPr>
          <a:xfrm>
            <a:off x="2700360" y="117360"/>
            <a:ext cx="3905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데카르트 요약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의주의 극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감각적 특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적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비주의 제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을 통해 수많은 현상 설명 시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23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많은 경우 조악한 설명에 그쳤지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를 뛰어넘는 자연철학의 가능성 제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당시 유럽 사회에 엄청난 영향력 행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가능성을 진리로 바꾸는 일은 뉴턴의 몫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음주 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데카르트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세계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1-2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4-8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감각과 감각을 일으키는 대상 사이에 유사성이 없다는 점을 어떻게 논증하는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가 둘의 차이를 강조한 이유는 무엇일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에게 열이란 무엇인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데카르트는 자연법칙의 존재 및 각각의 법칙들을 어떤 근거로 정당화하는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기적에 대한 데카르트의 입장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무엇이며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그런 입장을 취하는 이유는 무엇일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직선관성의 법칙이 부여된 물질들에 의해 소용돌이가 만들어지는 이유는 무엇이며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각 원소마다 위치의 차이가 만들어지는 이유는 무엇인가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13336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지금까지의 철학은 무가치하므로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더 나은 설계도로 모든 것을 다시 정립하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올바른 기초 위에서 과학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인간의 </a:t>
            </a:r>
            <a:br>
              <a:rPr sz="2800"/>
            </a:b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모든 지식에 대한 총체적인 재건축을 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…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지 그 방법밖에는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-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베이컨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Francis Bacon, 1561-162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데카르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596-1650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5300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실한 지식의 존재 재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계적 철학의 비전 제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8" name="Picture 8" descr="Image:Descartes.jpg"/>
          <p:cNvPicPr/>
          <p:nvPr/>
        </p:nvPicPr>
        <p:blipFill>
          <a:blip r:embed="rId1"/>
          <a:stretch/>
        </p:blipFill>
        <p:spPr>
          <a:xfrm>
            <a:off x="2909880" y="476280"/>
            <a:ext cx="3246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회의주의 극복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 의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방법론적 회의주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통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할 수 없는 것으로부터 지식의 체계 재건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모든 것을 의심하고 남은 것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는 생각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므로 나는 존재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생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는 나의 존재는 의심할 수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심하는 나의 존재로부터 신과 세계 존재 증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신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완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으로부터 세계의 작동 법칙 유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3" name="Picture 6" descr="desdiscourse"/>
          <p:cNvPicPr/>
          <p:nvPr/>
        </p:nvPicPr>
        <p:blipFill>
          <a:blip r:embed="rId1"/>
          <a:stretch/>
        </p:blipFill>
        <p:spPr>
          <a:xfrm>
            <a:off x="1692360" y="333360"/>
            <a:ext cx="173664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705840" y="476280"/>
            <a:ext cx="26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《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방법서설 및 굴절광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기상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기하학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》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(1637)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감각 경험 분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감각과 감각을 일으키는 대상의 분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과가 빨갛게 보이는 이유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과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빨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라는 속성을 가지고 있기 때문이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5" descr="http://c.ask.nate.com/imgs/knsi.php/347016/1/%EC%82%AC%EA%B3%BC.jpg"/>
          <p:cNvPicPr/>
          <p:nvPr/>
        </p:nvPicPr>
        <p:blipFill>
          <a:blip r:embed="rId1"/>
          <a:stretch/>
        </p:blipFill>
        <p:spPr>
          <a:xfrm>
            <a:off x="1332000" y="1268280"/>
            <a:ext cx="1417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6:58:20Z</dcterms:created>
  <dc:creator>zolaist</dc:creator>
  <dc:description/>
  <dc:language>en-US</dc:language>
  <cp:lastModifiedBy>zolaist</cp:lastModifiedBy>
  <dcterms:modified xsi:type="dcterms:W3CDTF">2011-04-08T05:01:48Z</dcterms:modified>
  <cp:revision>73</cp:revision>
  <dc:subject/>
  <dc:title>데카르트와 기계적 철학</dc:title>
</cp:coreProperties>
</file>